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E594-A45E-4041-BA7D-44B2D6D9623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911E-5689-4701-9ACC-9514A484FF1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73BB-0672-4895-828F-5ECA2EE7F97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5B19-8889-434C-B875-3B8084C5C2E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A8BF-D203-4C47-BFF3-6B86AA3E931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8A9C-99A2-4920-8E52-E746A57C408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56AE-2970-4D4E-872B-FAE441B6EBA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DEA4-0D51-4CDE-A015-5BC3CEA0892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D831-E793-4244-A6EF-156E1739442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79A2-B99A-41D7-91F0-117D0EE6561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CE69-30AC-4255-BBFC-3949E4F8ABF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22CC-BD71-4D5E-B9F6-ED4189EC077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7572-6417-488D-82B8-6212483F723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D443-83B0-4C55-B901-0ECBFE3E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5AB0-0CD6-41D8-B74C-7101E6C4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AA93-D093-40C9-BC1B-65D50ED3B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8DCB-2D85-475F-9317-6F5B8B4DD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3279-662C-4FA0-BD9F-52D2637EE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C610-1419-4A3F-8054-7C0688B6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CF0A-5D01-40F4-96C2-41B917DA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C07F-6B2B-4430-9861-7E8ED3EF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FE32-2F2A-43A9-B459-DFAB2A44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1B23-D429-434E-B2FB-833998D6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C020-9B41-47E2-B7ED-CD9443C4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0DA4-729A-4F57-A04B-46ADDE93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ABEC-1EAC-4AEB-B72F-43191B8F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C54A-615E-404E-8349-293D1F0A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2E3C-49F9-4116-86B2-BD549854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3622-A2EE-4F17-A8DA-69831BCC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CF35-B525-4149-A999-CF66FDA3E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47406-B431-49A9-B374-D570670B7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60ED0-DF4F-4C49-960C-BD090B34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68B7E-BD56-4610-A4CE-F98B5728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5DB7B-60BB-44D7-B25C-82770696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D3232-98D0-43CC-A93B-84E97E3F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AAD3-52AA-43B2-A043-1FAB2880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380A8-77B7-4CD3-8C5F-16234898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734BE-A643-4CDD-AEFA-E884E86F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77E0B-91E2-4064-818E-249A7B6E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92EB6-1F43-4600-9050-6CCB87E1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B3794-63E0-43AF-B23F-9C95A8FE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9FC8C-916D-443A-9718-983F050F1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1DCFB-5107-491D-BE9E-8BD160030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5D3A-827A-4271-A3C8-7B4D9658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A329-A9E1-4E04-8265-C379065C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A523-3365-47E1-AFAC-1B5D1B32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8FA4-82B4-4C0F-A809-8563CA6E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8D25-6DAA-4AFA-91DE-13EADC03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F276-4358-4F51-AF64-BE738E19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6413-DFB5-4D06-B3C1-12EB787A7A1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A2A2-AFE9-4325-A523-90CE06C6A845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7152-D7BE-43E8-980E-FE2812FBAF18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1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5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6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7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8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9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0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Hydraulikschem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Heizkörp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mit RTL-Venti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Speicheraufladu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Regelungstechni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48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50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51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54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55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5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66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66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66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67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70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70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1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1786" name="Line 165"/>
          <p:cNvSpPr/>
          <p:nvPr/>
        </p:nvSpPr>
        <p:spPr>
          <a:xfrm flipV="1">
            <a:off x="1187280" y="2492280"/>
            <a:ext cx="381636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Textfeld 1"/>
          <p:cNvSpPr/>
          <p:nvPr/>
        </p:nvSpPr>
        <p:spPr>
          <a:xfrm>
            <a:off x="4859280" y="1722600"/>
            <a:ext cx="26654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Hier das Bild einer Einzelraumsteuerung einfü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8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789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794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796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797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798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99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800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1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3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4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5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6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7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8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9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0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1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2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3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814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4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5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6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827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28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29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6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37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5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866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867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5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76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7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9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950" name="Picture 164" descr="http://hausbau.daoud.de/wp-content/uploads/2011/03/IMG_6465-Kopie-1024x767.jpg"/>
          <p:cNvPicPr/>
          <p:nvPr/>
        </p:nvPicPr>
        <p:blipFill>
          <a:blip r:embed="rId38"/>
          <a:stretch/>
        </p:blipFill>
        <p:spPr>
          <a:xfrm>
            <a:off x="1476360" y="1052640"/>
            <a:ext cx="5904000" cy="4422600"/>
          </a:xfrm>
          <a:prstGeom prst="rect">
            <a:avLst/>
          </a:prstGeom>
          <a:ln w="0">
            <a:noFill/>
          </a:ln>
        </p:spPr>
      </p:pic>
      <p:sp>
        <p:nvSpPr>
          <p:cNvPr id="1951" name="Line 165"/>
          <p:cNvSpPr/>
          <p:nvPr/>
        </p:nvSpPr>
        <p:spPr>
          <a:xfrm>
            <a:off x="324000" y="620640"/>
            <a:ext cx="309564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95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95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95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95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95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5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5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96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96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96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6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96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97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8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99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99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200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03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4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6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7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8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9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0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1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2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3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4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5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6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7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8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9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0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1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2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3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4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5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4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5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6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0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1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2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3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4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7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9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61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63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19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28" name="Object 17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5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54" descr="http://bauen.in-tostedt.de/uploads/Tostedt/100_0598.JPG"/>
          <p:cNvPicPr/>
          <p:nvPr/>
        </p:nvPicPr>
        <p:blipFill>
          <a:blip r:embed="rId38"/>
          <a:stretch/>
        </p:blipFill>
        <p:spPr>
          <a:xfrm>
            <a:off x="395280" y="1413000"/>
            <a:ext cx="5184720" cy="389088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255"/>
          <p:cNvSpPr/>
          <p:nvPr/>
        </p:nvSpPr>
        <p:spPr>
          <a:xfrm>
            <a:off x="5364000" y="3357720"/>
            <a:ext cx="1944720" cy="865080"/>
          </a:xfrm>
          <a:prstGeom prst="leftArrow">
            <a:avLst>
              <a:gd name="adj1" fmla="val 50000"/>
              <a:gd name="adj2" fmla="val 562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35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38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9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66" descr="http://www.heimwerker-tipps.net/wp-content/uploads/2008/02/heizkoerper.jpg"/>
          <p:cNvPicPr/>
          <p:nvPr/>
        </p:nvPicPr>
        <p:blipFill>
          <a:blip r:embed="rId38"/>
          <a:stretch/>
        </p:blipFill>
        <p:spPr>
          <a:xfrm>
            <a:off x="2987640" y="2276640"/>
            <a:ext cx="4000680" cy="2676240"/>
          </a:xfrm>
          <a:prstGeom prst="rect">
            <a:avLst/>
          </a:prstGeom>
          <a:ln w="0">
            <a:noFill/>
          </a:ln>
        </p:spPr>
      </p:pic>
      <p:sp>
        <p:nvSpPr>
          <p:cNvPr id="467" name="Line 171"/>
          <p:cNvSpPr/>
          <p:nvPr/>
        </p:nvSpPr>
        <p:spPr>
          <a:xfrm flipH="1">
            <a:off x="6156000" y="1413000"/>
            <a:ext cx="43164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72"/>
          <p:cNvSpPr/>
          <p:nvPr/>
        </p:nvSpPr>
        <p:spPr>
          <a:xfrm>
            <a:off x="3276720" y="1197000"/>
            <a:ext cx="934920" cy="26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518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548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57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64" descr="http://www.abload.de/img/imag0098c1ajt.jpg"/>
          <p:cNvPicPr/>
          <p:nvPr/>
        </p:nvPicPr>
        <p:blipFill>
          <a:blip r:embed="rId38"/>
          <a:stretch/>
        </p:blipFill>
        <p:spPr>
          <a:xfrm>
            <a:off x="1042920" y="2421000"/>
            <a:ext cx="4667400" cy="2790720"/>
          </a:xfrm>
          <a:prstGeom prst="rect">
            <a:avLst/>
          </a:prstGeom>
          <a:ln w="0">
            <a:noFill/>
          </a:ln>
        </p:spPr>
      </p:pic>
      <p:sp>
        <p:nvSpPr>
          <p:cNvPr id="632" name="Line 165"/>
          <p:cNvSpPr/>
          <p:nvPr/>
        </p:nvSpPr>
        <p:spPr>
          <a:xfrm>
            <a:off x="2627280" y="1341360"/>
            <a:ext cx="43200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66"/>
          <p:cNvSpPr/>
          <p:nvPr/>
        </p:nvSpPr>
        <p:spPr>
          <a:xfrm>
            <a:off x="2124000" y="1773360"/>
            <a:ext cx="71640" cy="20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67"/>
          <p:cNvSpPr/>
          <p:nvPr/>
        </p:nvSpPr>
        <p:spPr>
          <a:xfrm>
            <a:off x="2916360" y="1773360"/>
            <a:ext cx="1368360" cy="19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684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714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2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23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797" name="Line 167"/>
          <p:cNvSpPr/>
          <p:nvPr/>
        </p:nvSpPr>
        <p:spPr>
          <a:xfrm flipV="1">
            <a:off x="1258920" y="4436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68"/>
          <p:cNvSpPr/>
          <p:nvPr/>
        </p:nvSpPr>
        <p:spPr>
          <a:xfrm flipV="1">
            <a:off x="826920" y="3357360"/>
            <a:ext cx="0" cy="23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69"/>
          <p:cNvSpPr/>
          <p:nvPr/>
        </p:nvSpPr>
        <p:spPr>
          <a:xfrm flipV="1">
            <a:off x="539640" y="3141360"/>
            <a:ext cx="2664000" cy="237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feld 1"/>
          <p:cNvSpPr/>
          <p:nvPr/>
        </p:nvSpPr>
        <p:spPr>
          <a:xfrm>
            <a:off x="500040" y="1700280"/>
            <a:ext cx="31352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 ein Bild aus dem Buderus-Katalog einfügen von einem bodenstehenden Heizkessel mit dem Schnellmontagesystem RK 1-E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850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880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8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89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64" descr="http://www.tommshop.de/Media/Shop/63222.jpg"/>
          <p:cNvPicPr/>
          <p:nvPr/>
        </p:nvPicPr>
        <p:blipFill>
          <a:blip r:embed="rId38"/>
          <a:stretch/>
        </p:blipFill>
        <p:spPr>
          <a:xfrm>
            <a:off x="1835280" y="76500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964" name="Line 165"/>
          <p:cNvSpPr/>
          <p:nvPr/>
        </p:nvSpPr>
        <p:spPr>
          <a:xfrm flipV="1">
            <a:off x="1835280" y="2923920"/>
            <a:ext cx="792000" cy="302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166"/>
          <p:cNvSpPr/>
          <p:nvPr/>
        </p:nvSpPr>
        <p:spPr>
          <a:xfrm flipH="1" flipV="1">
            <a:off x="3419280" y="2852280"/>
            <a:ext cx="865080" cy="20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167"/>
          <p:cNvSpPr/>
          <p:nvPr/>
        </p:nvSpPr>
        <p:spPr>
          <a:xfrm flipH="1" flipV="1">
            <a:off x="4427280" y="2852280"/>
            <a:ext cx="2592360" cy="25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993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008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016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046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55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6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64" descr="http://www.ersatzteilfachmann.de/images/product_images/popup_images/image_BUDERUS5594672_1.jpg"/>
          <p:cNvPicPr/>
          <p:nvPr/>
        </p:nvPicPr>
        <p:blipFill>
          <a:blip r:embed="rId38"/>
          <a:stretch/>
        </p:blipFill>
        <p:spPr>
          <a:xfrm>
            <a:off x="1692360" y="260280"/>
            <a:ext cx="4897440" cy="3676680"/>
          </a:xfrm>
          <a:prstGeom prst="rect">
            <a:avLst/>
          </a:prstGeom>
          <a:ln w="0">
            <a:noFill/>
          </a:ln>
        </p:spPr>
      </p:pic>
      <p:sp>
        <p:nvSpPr>
          <p:cNvPr id="1130" name="Line 165"/>
          <p:cNvSpPr/>
          <p:nvPr/>
        </p:nvSpPr>
        <p:spPr>
          <a:xfrm flipH="1" flipV="1">
            <a:off x="4066920" y="3212640"/>
            <a:ext cx="73080" cy="20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feld 1"/>
          <p:cNvSpPr/>
          <p:nvPr/>
        </p:nvSpPr>
        <p:spPr>
          <a:xfrm>
            <a:off x="5302080" y="3598920"/>
            <a:ext cx="12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©Copyright ES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15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17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18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1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2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294" name="Picture 164" descr="http://medien.markt.de/bilder/2013/10/29/18/35849bd2/medium_image/0/buderus_ecomatic_heizungsregelung.jpg"/>
          <p:cNvPicPr/>
          <p:nvPr/>
        </p:nvPicPr>
        <p:blipFill>
          <a:blip r:embed="rId38"/>
          <a:stretch/>
        </p:blipFill>
        <p:spPr>
          <a:xfrm>
            <a:off x="1692360" y="184464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95" name="Line 165"/>
          <p:cNvSpPr/>
          <p:nvPr/>
        </p:nvSpPr>
        <p:spPr>
          <a:xfrm flipV="1">
            <a:off x="3419640" y="4220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1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322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4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337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4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345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3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375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3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84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5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64" descr="thumb_w680_h800_Fubodenheizungsverteiler"/>
          <p:cNvPicPr/>
          <p:nvPr/>
        </p:nvPicPr>
        <p:blipFill>
          <a:blip r:embed="rId38"/>
          <a:stretch/>
        </p:blipFill>
        <p:spPr>
          <a:xfrm>
            <a:off x="2556000" y="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1459" name="AutoShape 165"/>
          <p:cNvSpPr/>
          <p:nvPr/>
        </p:nvSpPr>
        <p:spPr>
          <a:xfrm>
            <a:off x="414036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AutoShape 166"/>
          <p:cNvSpPr/>
          <p:nvPr/>
        </p:nvSpPr>
        <p:spPr>
          <a:xfrm>
            <a:off x="478800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167"/>
          <p:cNvSpPr/>
          <p:nvPr/>
        </p:nvSpPr>
        <p:spPr>
          <a:xfrm flipH="1" flipV="1">
            <a:off x="5724000" y="1413000"/>
            <a:ext cx="360360" cy="20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Werner, Uwe (ZSL)</cp:lastModifiedBy>
  <dcterms:modified xsi:type="dcterms:W3CDTF">2020-03-02T14:24:45Z</dcterms:modified>
  <cp:revision>16</cp:revision>
  <dc:subject/>
  <dc:title>Folie 1</dc:title>
</cp:coreProperties>
</file>